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673-C264-4A2F-919E-2C9D4D7E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A83-2673-4598-BFFA-F1E0EFF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218-FA88-469C-94CE-CE843FC3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83A-2EFF-4EE0-9AC7-3C8CA569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E98-A28F-4BF6-BEEF-6BED40C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6DB-A85F-4DC4-8365-905AACB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BA2-C705-44D0-8F38-468276E4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C72-4D8D-48BF-AB91-6669A62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0E2-2156-440E-8427-86DF401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8DF-2184-48FC-923F-78A4329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429-99EB-4C51-9F93-910B97F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F18-2EA4-41F4-A6BE-D1EE4B1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1961-9D6B-4DC3-B37F-2CFE8C12633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7"/>
          <p:cNvSpPr/>
          <p:nvPr/>
        </p:nvSpPr>
        <p:spPr>
          <a:xfrm>
            <a:off x="108000" y="115920"/>
            <a:ext cx="8928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ybrid journals publication fees including « normal page charges »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ximum number of pages authorized without additional page charge fee),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1 colour Figure, with or without « OA option » APC (which always add to « normal $$$ »).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Guess which journal belongs to a «commercial publisher» and which to the scientific community itself (</a:t>
            </a:r>
            <a:r>
              <a:rPr b="1" i="1" lang="fr-FR" sz="1200" spc="-1" strike="noStrike">
                <a:solidFill>
                  <a:srgbClr val="333399"/>
                </a:solidFill>
                <a:latin typeface="Arial"/>
              </a:rPr>
              <a:t>Society, Univ Press…, including those which mandate commercial publishers to ensure revenues from their journal</a:t>
            </a: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)?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ould somebody make himself pay what he can no longer pay while shouting that publication fees are a scan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9920" y="1413000"/>
          <a:ext cx="2601720" cy="5163840"/>
        </p:xfrm>
        <a:graphic>
          <a:graphicData uri="http://schemas.openxmlformats.org/drawingml/2006/table">
            <a:tbl>
              <a:tblPr/>
              <a:tblGrid>
                <a:gridCol w="801720"/>
                <a:gridCol w="671400"/>
                <a:gridCol w="577800"/>
                <a:gridCol w="550800"/>
              </a:tblGrid>
              <a:tr h="3679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normal"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A A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O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 3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KEM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EATH DIFF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8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C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GE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9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CLIN ENDOCR META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V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CELL BI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ENTER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IMMUN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 PHARM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INFECT D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 NEU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 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J HUM GE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NEURO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6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B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ANTIMICROB CHEM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MICROB AGENTS 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 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J EPIDEMI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132000" y="1341360"/>
          <a:ext cx="2519640" cy="5418360"/>
        </p:xfrm>
        <a:graphic>
          <a:graphicData uri="http://schemas.openxmlformats.org/drawingml/2006/table">
            <a:tbl>
              <a:tblPr/>
              <a:tblGrid>
                <a:gridCol w="932040"/>
                <a:gridCol w="603360"/>
                <a:gridCol w="547560"/>
                <a:gridCol w="436680"/>
              </a:tblGrid>
              <a:tr h="3463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normal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A A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HRITIS RHEUM-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J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THROMB HAEM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J IMMUN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 J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CYC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 MOL GE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TERIA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PHYSIOL-LOND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NATL ACAD SCI U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 MUT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NEUROCH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EM PHARMA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J NEURO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HEART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L LIFE 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J PHARMACE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POROSIS 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8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OLOG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873760" y="1413000"/>
          <a:ext cx="3035160" cy="4381200"/>
        </p:xfrm>
        <a:graphic>
          <a:graphicData uri="http://schemas.openxmlformats.org/drawingml/2006/table">
            <a:tbl>
              <a:tblPr/>
              <a:tblGrid>
                <a:gridCol w="1422360"/>
                <a:gridCol w="596880"/>
                <a:gridCol w="495360"/>
                <a:gridCol w="520560"/>
              </a:tblGrid>
              <a:tr h="571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normal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A  A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 J PHARMA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J BIOCHEM CELL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CE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BIOL CH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PHA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ROL DIAL TRANS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 MED BI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J PATH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0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CELL 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ALZHEIMERS D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MED GE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IM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IM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SCI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C PUBLIC HEAL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RESPIR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EM BIOPH RES 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22:46:24Z</dcterms:created>
  <dc:creator>pelaprat</dc:creator>
  <dc:description/>
  <dc:language>en-US</dc:language>
  <cp:lastModifiedBy>pelaprat</cp:lastModifiedBy>
  <cp:lastPrinted>2013-11-15T13:32:59Z</cp:lastPrinted>
  <dcterms:modified xsi:type="dcterms:W3CDTF">2015-05-15T10:28:33Z</dcterms:modified>
  <cp:revision>148</cp:revision>
  <dc:subject/>
  <dc:title>Diapositive 1</dc:title>
</cp:coreProperties>
</file>